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494F-69D1-4E94-8294-70EDE97B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FC0-BB73-4E94-805C-6A392E8B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966-017F-4315-AE96-D5562BF9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8F60-3034-4F5C-BBDA-D79C7FC8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5DA-7656-40A1-8409-E380DA35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A548-50FF-4E22-9887-ABAF00A4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263E-B137-48F8-AB95-E7944D6F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F407-00A1-407F-A082-081F75E0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142-D072-480C-BD4B-80ED5CA6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C95E-A322-46D8-9260-D84FEEE6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98B1-3709-4684-A715-267739D1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EFD1-F107-4D4D-B374-000C7190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02A6-BB9F-4D90-825C-3CFC3CEAA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Jungle-Upton Sinclair 5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Context of the novel is very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at the turn of the century, no novel since, Uncle Tom’s Cabin caused such an uproar, or left such an impact on American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 “muckraker” journalist. Raking up muck or dirt and revealing social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lead to the USDA and F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to answer as we rea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e find out about Jurgis in the first para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meant by this: “Jurgis was like a boy, a boy from the countr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ttitude does Jurgis have toward the unemploy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ed to Jurgis’ bro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that Jurgis “find his fortune?” Who is he trying to prove himself 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 immigrants view Ame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e description of Jurgis on page 535 show us about hi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Jungle-535 Questions to answer as we re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the family go to Chicago after arriving in Amer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family most afraid of 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area around the stockyards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last paragraph the narrator chooses to use the pronou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e family friend described as “mythical”? What does the family think will happen now that they have met up with h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boarding house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9:35:52Z</dcterms:created>
  <dc:creator>VMS</dc:creator>
  <dc:description/>
  <dc:language>en-US</dc:language>
  <cp:lastModifiedBy>VMS</cp:lastModifiedBy>
  <dcterms:modified xsi:type="dcterms:W3CDTF">2010-02-08T20:12:49Z</dcterms:modified>
  <cp:revision>2</cp:revision>
  <dc:subject/>
  <dc:title>Slide 1</dc:title>
</cp:coreProperties>
</file>